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BC87-0E7F-44B7-8C63-CEA069A49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Facilitating review of T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ICG for resource cons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Agreeing to critiria for applications and reviewing lakes structures poli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F3F3-2545-41BB-B4E7-A3C334BC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A317-4E03-4F07-9D56-1DAED6E9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C50-F83A-4EF9-AFBC-5D1D4F4A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B35B-AAED-4F94-93D9-ABE37DAC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464D-6A87-45C3-9069-D968A844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7B81-2243-4005-81F1-B055731D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F827-0A1F-4A39-BE2A-A2EA4A79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B534-8ABE-4B25-AFD7-E1709671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52B9-54AC-4AD7-8B9D-36267E00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B218-66CB-4C3A-94B2-52632099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8E9E-B89F-44D5-BFF3-7EB818EF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FBC2-1E51-41E8-9EF7-4282FFD1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6D16-3CFA-4705-A4D5-B845EC3C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DE38-3F4D-4C56-90B5-1A90BBBA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4920-D92F-4F4E-B05C-76804499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6504-AC79-40E2-88B4-6BD1B579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A72F-07B9-4BE5-82E2-27A73739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D3E2-E9B1-4117-8175-EF7C4D14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D95C-A379-4EAA-9943-5539E502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2022-B963-40C2-A175-919017FC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9510-9774-4E75-8D45-98C5A2E5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BEB-EF00-410A-AED5-8DA8CBA5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6C9A-CA6F-4E55-9C6F-99FFA8AF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51B1-A6D6-4049-99FE-AC52DDDF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C0CE-8702-4671-8FFA-DBCD39A14F2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129C-E929-418C-8762-241967FBFF2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b9efee"/>
                </a:solidFill>
                <a:latin typeface="Garamond"/>
              </a:rPr>
              <a:t>TE ARAWA LAKES TRUS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trust_logo%2001" descr=""/>
          <p:cNvPicPr/>
          <p:nvPr/>
        </p:nvPicPr>
        <p:blipFill>
          <a:blip r:embed="rId2"/>
          <a:stretch/>
        </p:blipFill>
        <p:spPr>
          <a:xfrm>
            <a:off x="3397320" y="3886200"/>
            <a:ext cx="23493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b9efee"/>
                </a:solidFill>
                <a:latin typeface="Garamond"/>
              </a:rPr>
              <a:t>CULTURAL REDRESS (Cont)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Garamond"/>
              </a:rPr>
              <a:t>Relationship Redress</a:t>
            </a: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ffffff"/>
                </a:solidFill>
                <a:uFillTx/>
                <a:latin typeface="Garamond"/>
              </a:rPr>
              <a:t>Statutory Acknowledgements</a:t>
            </a: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provide for </a:t>
            </a: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Crown to acknowledge Te Arawa’s cultural, spiritual, historical and traditional association with the Lak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- consent authorities to have regard to the S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- consent authorities to forward to Te Arawa summaries of resource consent application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- Te Arawa to cite to consent authorities, the Historic Places Trust and the Environment Court the SA as evidence of the associat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-  consent authorities to attach the SA to statutory plans for the purpose of public inform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b9efee"/>
                </a:solidFill>
                <a:latin typeface="Garamond"/>
              </a:rPr>
              <a:t>CULTURAL REDRESS (Cont)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Garamond"/>
              </a:rPr>
              <a:t>Relationship Redress (cont)</a:t>
            </a: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Promotion of Relationships between Te Arawa and other organisation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Transit New Zeala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National Institute of Water and Atmospheric Research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Eastern Region Fish and Game Counci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Bay of Plenty Conservation Boar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Te Arawa Lakes Trust to meet with these organisations and work with them regarding their roles relating to the Lak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Placenames – restoration of over 100 significant traditional Te Arawa placenam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Cultural harvests – Crown will encourage relevant local authorities to amend their Plans to enable Te Arawa to take paru and indigenous plants from Lakes without resource cons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ffffff"/>
                </a:solidFill>
                <a:latin typeface="Univers 55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b9efee"/>
                </a:solidFill>
                <a:latin typeface="Garamond"/>
              </a:rPr>
              <a:t>CULTURAL REDRESS (Cont)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Garamond"/>
              </a:rPr>
              <a:t>Te Arawa Freshwater Fisheries Regulation 200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Provides for regulations to be drafted that will enable Te Arawa t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manage customary non-commercial fishing of certain species 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in the Lak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authorise persons to take certain species for customary non-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commercial purpo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draft bylaws, for approval by the Minister of Fisheries, 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restricting or prohibiting the taking of all or some certain 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species in the Lak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establish a management committe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recommend to the Minister that commercial fishing be allowed 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for all or some of certain species in the Lak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ENGAGEMENT WITH LOCAL AUTHORITIE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torua District Counci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Te Arawa Standing Committe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 Arawa Standing Committee Revie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Nga Matakokiri Revie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Te Whare Taonga O Te Araw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Iwi Consultative Grou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Lakes Structures Protoco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Mayoral For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Submissions on Plans &amp; Develop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Conduit  between RDC consultants &amp; Iw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Policy Planning &amp; Implem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ENGAGEMENT WITH LOCAL AUTHORITIE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BO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rbour Master (Lakes Closur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Submissions on Plans &amp; Develop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Conduit  between EBOP consultants &amp; Iw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Policy Planning &amp; Implemen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Research &amp; Monito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Water Quality Focus Grou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ENGAGEMENT WITH LOCAL AUTHORITIE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WBOPD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Maketu Strategy Committe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WBOPDC Maori Advisory Committe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Drafting of Maketu Community Development Pl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Submissions on Plans &amp; Develop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Conduit  between WBOPDC consultants &amp; Iw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Policy Planning &amp; Implem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Research &amp; Monitor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Water Quality Focus Grou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b9efee"/>
                </a:solidFill>
                <a:latin typeface="Garamond"/>
              </a:rPr>
              <a:t>RESEARCH &amp; POLICY DEVELOPMEN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Mahinga Ka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SWPo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Freshwater Man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Bioprospec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Intellectual Property R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Te  Arawa Tau Kour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Contaminants in Ka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Macrophyt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SHAMK Proj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Vermicomposting of Lake Wee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b9efee"/>
                </a:solidFill>
                <a:latin typeface="Garamond"/>
              </a:rPr>
              <a:t>ENGAGEMENT WITH TE ARAW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Whanau Develop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Te Arawa Single Ent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Joint Registration Project with TKOTAW &amp; TPTO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Naumaiplace Website Develop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Te Pukenga Koeke O Te Araw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Tarawera Trai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Te Rangatakap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Institute of Directors Trai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Matariki Celebr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Charitable Status Registr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Electoral Commission Worksho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Puarenga Catch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b9efee"/>
                </a:solidFill>
                <a:latin typeface="Garamond"/>
              </a:rPr>
              <a:t>Overview of Te Arawa Lakes Settlement Act 2006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Ap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Financial and Annuity Red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Cultural Red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22960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b9efee"/>
                </a:solidFill>
                <a:latin typeface="Garamond"/>
              </a:rPr>
              <a:t>OTHER TE ARAWA LAKE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Already owned by Iwi/Hapu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Lake Rotokakah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Lake Rotokaw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Lake Rotokawa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b9efee"/>
                </a:solidFill>
                <a:latin typeface="Garamond"/>
              </a:rPr>
              <a:t>APOLOG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Apology and recognition of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Breaches of the TOW and its princip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ctions that have had a negative impact on Te Arawa’s rangatiratanga over the lakes and their use of lake resour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Acknowledges the significant contribution that the Te Arawa Lakes have made to tourism and the wealth of the NZ &amp; Rotoru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Acknowledges the spiritual, cultural, economic and traditional importance to Te Araw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Recognises the longstanding grievances of Te Arawa and that it has failed to deal with those grievances</a:t>
            </a:r>
            <a:r>
              <a:rPr b="0" i="1" lang="en-NZ" sz="2400" spc="-1" strike="noStrike">
                <a:solidFill>
                  <a:srgbClr val="ffffff"/>
                </a:solidFill>
                <a:latin typeface="Univers 55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b9efee"/>
                </a:solidFill>
                <a:latin typeface="Garamond"/>
              </a:rPr>
              <a:t>FINANCIAL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$7.3 million to buy out annu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$2.7 million for bre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$400,000 capitalisation on 40 free fishing lic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$7.3 million invested upon signing of AI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Interest available to Te Araw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 difference paid once DOS sign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b9efee"/>
                </a:solidFill>
                <a:latin typeface="Garamond"/>
              </a:rPr>
              <a:t>CULTURAL REDRES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500" spc="-1" strike="noStrike">
                <a:solidFill>
                  <a:srgbClr val="ffffff"/>
                </a:solidFill>
                <a:latin typeface="Garamond"/>
              </a:rPr>
              <a:t>Aimed at restoring Te Arawa’s ability to exercise its kaitiakitanga responsibilities in relation to the Lakes: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876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500" spc="-1" strike="noStrike">
                <a:solidFill>
                  <a:srgbClr val="ffffff"/>
                </a:solidFill>
                <a:latin typeface="Garamond"/>
              </a:rPr>
              <a:t>Ownership of 13 lakebed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500" spc="-1" strike="noStrike">
                <a:solidFill>
                  <a:srgbClr val="ffffff"/>
                </a:solidFill>
                <a:latin typeface="Garamond"/>
              </a:rPr>
              <a:t>- Vesting of the lakebeds in Te Araw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500" spc="-1" strike="noStrike">
                <a:solidFill>
                  <a:srgbClr val="ffffff"/>
                </a:solidFill>
                <a:latin typeface="Garamond"/>
              </a:rPr>
              <a:t>- Negotiate return of Lake Okar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500" spc="-1" strike="noStrike">
                <a:solidFill>
                  <a:srgbClr val="ffffff"/>
                </a:solidFill>
                <a:latin typeface="Garamond"/>
              </a:rPr>
              <a:t>- Propriety right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500" spc="-1" strike="noStrike">
                <a:solidFill>
                  <a:srgbClr val="ffffff"/>
                </a:solidFill>
                <a:latin typeface="Garamond"/>
              </a:rPr>
              <a:t>- Te Arawa/Crown relationship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6094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Garamond"/>
              </a:rPr>
              <a:t>TE ARAWA OWNERSHI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4419720"/>
            <a:ext cx="1008360" cy="1225440"/>
          </a:xfrm>
          <a:custGeom>
            <a:avLst/>
            <a:gdLst/>
            <a:ahLst/>
            <a:rect l="l" t="t" r="r" b="b"/>
            <a:pathLst>
              <a:path w="635" h="772">
                <a:moveTo>
                  <a:pt x="1" y="767"/>
                </a:moveTo>
                <a:cubicBezTo>
                  <a:pt x="151" y="768"/>
                  <a:pt x="476" y="767"/>
                  <a:pt x="634" y="772"/>
                </a:cubicBezTo>
                <a:cubicBezTo>
                  <a:pt x="634" y="590"/>
                  <a:pt x="635" y="475"/>
                  <a:pt x="634" y="179"/>
                </a:cubicBezTo>
                <a:cubicBezTo>
                  <a:pt x="481" y="130"/>
                  <a:pt x="562" y="154"/>
                  <a:pt x="520" y="143"/>
                </a:cubicBezTo>
                <a:cubicBezTo>
                  <a:pt x="478" y="132"/>
                  <a:pt x="485" y="129"/>
                  <a:pt x="403" y="110"/>
                </a:cubicBezTo>
                <a:cubicBezTo>
                  <a:pt x="244" y="75"/>
                  <a:pt x="133" y="21"/>
                  <a:pt x="0" y="0"/>
                </a:cubicBezTo>
                <a:cubicBezTo>
                  <a:pt x="0" y="0"/>
                  <a:pt x="1" y="767"/>
                  <a:pt x="1" y="767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4038480"/>
            <a:ext cx="7186680" cy="1125720"/>
          </a:xfrm>
          <a:custGeom>
            <a:avLst/>
            <a:gdLst/>
            <a:ahLst/>
            <a:rect l="l" t="t" r="r" b="b"/>
            <a:pathLst>
              <a:path w="4527" h="709">
                <a:moveTo>
                  <a:pt x="0" y="35"/>
                </a:moveTo>
                <a:cubicBezTo>
                  <a:pt x="211" y="93"/>
                  <a:pt x="902" y="270"/>
                  <a:pt x="1241" y="368"/>
                </a:cubicBezTo>
                <a:cubicBezTo>
                  <a:pt x="1580" y="466"/>
                  <a:pt x="1628" y="581"/>
                  <a:pt x="2035" y="624"/>
                </a:cubicBezTo>
                <a:cubicBezTo>
                  <a:pt x="2442" y="667"/>
                  <a:pt x="3319" y="709"/>
                  <a:pt x="3686" y="624"/>
                </a:cubicBezTo>
                <a:cubicBezTo>
                  <a:pt x="4053" y="539"/>
                  <a:pt x="4096" y="216"/>
                  <a:pt x="4236" y="112"/>
                </a:cubicBezTo>
                <a:cubicBezTo>
                  <a:pt x="4376" y="8"/>
                  <a:pt x="4467" y="23"/>
                  <a:pt x="4527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58128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ffffff"/>
                </a:solidFill>
                <a:latin typeface="Arial"/>
              </a:rPr>
              <a:t>High water ma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11480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NZ" sz="1400" spc="-1" strike="noStrike">
                <a:solidFill>
                  <a:srgbClr val="ffffff"/>
                </a:solidFill>
                <a:latin typeface="Arial"/>
              </a:rPr>
              <a:t>Lake bed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403848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ffffff"/>
                </a:solidFill>
                <a:latin typeface="Arial"/>
              </a:rPr>
              <a:t>Water colum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312408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ffffff"/>
                </a:solidFill>
                <a:latin typeface="Arial"/>
              </a:rPr>
              <a:t>Airsp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733560" y="419112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657600" y="327672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58920" y="3573360"/>
            <a:ext cx="7211880" cy="2160720"/>
          </a:xfrm>
          <a:custGeom>
            <a:avLst/>
            <a:gdLst/>
            <a:ahLst/>
            <a:rect l="l" t="t" r="r" b="b"/>
            <a:pathLst>
              <a:path w="4536" h="1361">
                <a:moveTo>
                  <a:pt x="0" y="0"/>
                </a:moveTo>
                <a:lnTo>
                  <a:pt x="0" y="1361"/>
                </a:lnTo>
                <a:lnTo>
                  <a:pt x="4536" y="1361"/>
                </a:lnTo>
                <a:lnTo>
                  <a:pt x="4536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2971800"/>
            <a:ext cx="1011240" cy="1712880"/>
          </a:xfrm>
          <a:custGeom>
            <a:avLst/>
            <a:gdLst/>
            <a:ahLst/>
            <a:rect l="l" t="t" r="r" b="b"/>
            <a:pathLst>
              <a:path w="637" h="1079">
                <a:moveTo>
                  <a:pt x="1" y="900"/>
                </a:moveTo>
                <a:lnTo>
                  <a:pt x="0" y="0"/>
                </a:lnTo>
                <a:lnTo>
                  <a:pt x="637" y="2"/>
                </a:lnTo>
                <a:lnTo>
                  <a:pt x="637" y="1079"/>
                </a:lnTo>
                <a:lnTo>
                  <a:pt x="1" y="9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295280" y="3581280"/>
            <a:ext cx="7207200" cy="82440"/>
            <a:chOff x="1295280" y="3581280"/>
            <a:chExt cx="7207200" cy="82440"/>
          </a:xfrm>
        </p:grpSpPr>
        <p:sp>
          <p:nvSpPr>
            <p:cNvPr id="146" name=""/>
            <p:cNvSpPr/>
            <p:nvPr/>
          </p:nvSpPr>
          <p:spPr>
            <a:xfrm>
              <a:off x="1295280" y="3581280"/>
              <a:ext cx="1011240" cy="82440"/>
            </a:xfrm>
            <a:custGeom>
              <a:avLst/>
              <a:gdLst/>
              <a:ahLst/>
              <a:rect l="l" t="t" r="r" b="b"/>
              <a:pathLst>
                <a:path w="637" h="52">
                  <a:moveTo>
                    <a:pt x="0" y="45"/>
                  </a:moveTo>
                  <a:cubicBezTo>
                    <a:pt x="8" y="43"/>
                    <a:pt x="28" y="41"/>
                    <a:pt x="52" y="28"/>
                  </a:cubicBezTo>
                  <a:cubicBezTo>
                    <a:pt x="76" y="15"/>
                    <a:pt x="78" y="5"/>
                    <a:pt x="90" y="6"/>
                  </a:cubicBezTo>
                  <a:cubicBezTo>
                    <a:pt x="103" y="7"/>
                    <a:pt x="112" y="27"/>
                    <a:pt x="128" y="34"/>
                  </a:cubicBezTo>
                  <a:cubicBezTo>
                    <a:pt x="144" y="41"/>
                    <a:pt x="164" y="48"/>
                    <a:pt x="185" y="48"/>
                  </a:cubicBezTo>
                  <a:cubicBezTo>
                    <a:pt x="204" y="48"/>
                    <a:pt x="226" y="44"/>
                    <a:pt x="244" y="36"/>
                  </a:cubicBezTo>
                  <a:cubicBezTo>
                    <a:pt x="261" y="27"/>
                    <a:pt x="271" y="0"/>
                    <a:pt x="285" y="0"/>
                  </a:cubicBezTo>
                  <a:cubicBezTo>
                    <a:pt x="299" y="0"/>
                    <a:pt x="309" y="26"/>
                    <a:pt x="328" y="34"/>
                  </a:cubicBezTo>
                  <a:cubicBezTo>
                    <a:pt x="347" y="43"/>
                    <a:pt x="376" y="52"/>
                    <a:pt x="399" y="51"/>
                  </a:cubicBezTo>
                  <a:cubicBezTo>
                    <a:pt x="421" y="51"/>
                    <a:pt x="442" y="44"/>
                    <a:pt x="460" y="36"/>
                  </a:cubicBezTo>
                  <a:cubicBezTo>
                    <a:pt x="477" y="29"/>
                    <a:pt x="492" y="7"/>
                    <a:pt x="504" y="6"/>
                  </a:cubicBezTo>
                  <a:cubicBezTo>
                    <a:pt x="520" y="7"/>
                    <a:pt x="538" y="34"/>
                    <a:pt x="554" y="41"/>
                  </a:cubicBezTo>
                  <a:cubicBezTo>
                    <a:pt x="570" y="48"/>
                    <a:pt x="585" y="51"/>
                    <a:pt x="598" y="51"/>
                  </a:cubicBezTo>
                  <a:cubicBezTo>
                    <a:pt x="612" y="52"/>
                    <a:pt x="629" y="46"/>
                    <a:pt x="637" y="45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05080" y="3581280"/>
              <a:ext cx="1011240" cy="82440"/>
            </a:xfrm>
            <a:custGeom>
              <a:avLst/>
              <a:gdLst/>
              <a:ahLst/>
              <a:rect l="l" t="t" r="r" b="b"/>
              <a:pathLst>
                <a:path w="637" h="52">
                  <a:moveTo>
                    <a:pt x="0" y="45"/>
                  </a:moveTo>
                  <a:cubicBezTo>
                    <a:pt x="8" y="43"/>
                    <a:pt x="28" y="41"/>
                    <a:pt x="52" y="28"/>
                  </a:cubicBezTo>
                  <a:cubicBezTo>
                    <a:pt x="76" y="15"/>
                    <a:pt x="78" y="5"/>
                    <a:pt x="90" y="6"/>
                  </a:cubicBezTo>
                  <a:cubicBezTo>
                    <a:pt x="103" y="7"/>
                    <a:pt x="112" y="27"/>
                    <a:pt x="128" y="34"/>
                  </a:cubicBezTo>
                  <a:cubicBezTo>
                    <a:pt x="144" y="41"/>
                    <a:pt x="164" y="48"/>
                    <a:pt x="185" y="48"/>
                  </a:cubicBezTo>
                  <a:cubicBezTo>
                    <a:pt x="204" y="48"/>
                    <a:pt x="226" y="44"/>
                    <a:pt x="244" y="36"/>
                  </a:cubicBezTo>
                  <a:cubicBezTo>
                    <a:pt x="261" y="27"/>
                    <a:pt x="271" y="0"/>
                    <a:pt x="285" y="0"/>
                  </a:cubicBezTo>
                  <a:cubicBezTo>
                    <a:pt x="299" y="0"/>
                    <a:pt x="309" y="26"/>
                    <a:pt x="328" y="34"/>
                  </a:cubicBezTo>
                  <a:cubicBezTo>
                    <a:pt x="347" y="43"/>
                    <a:pt x="376" y="52"/>
                    <a:pt x="399" y="51"/>
                  </a:cubicBezTo>
                  <a:cubicBezTo>
                    <a:pt x="421" y="51"/>
                    <a:pt x="442" y="44"/>
                    <a:pt x="460" y="36"/>
                  </a:cubicBezTo>
                  <a:cubicBezTo>
                    <a:pt x="477" y="29"/>
                    <a:pt x="492" y="7"/>
                    <a:pt x="504" y="6"/>
                  </a:cubicBezTo>
                  <a:cubicBezTo>
                    <a:pt x="520" y="7"/>
                    <a:pt x="538" y="34"/>
                    <a:pt x="554" y="41"/>
                  </a:cubicBezTo>
                  <a:cubicBezTo>
                    <a:pt x="570" y="48"/>
                    <a:pt x="585" y="51"/>
                    <a:pt x="598" y="51"/>
                  </a:cubicBezTo>
                  <a:cubicBezTo>
                    <a:pt x="612" y="52"/>
                    <a:pt x="629" y="46"/>
                    <a:pt x="637" y="45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13080" y="3581280"/>
              <a:ext cx="1011240" cy="82440"/>
            </a:xfrm>
            <a:custGeom>
              <a:avLst/>
              <a:gdLst/>
              <a:ahLst/>
              <a:rect l="l" t="t" r="r" b="b"/>
              <a:pathLst>
                <a:path w="637" h="52">
                  <a:moveTo>
                    <a:pt x="0" y="45"/>
                  </a:moveTo>
                  <a:cubicBezTo>
                    <a:pt x="8" y="43"/>
                    <a:pt x="28" y="41"/>
                    <a:pt x="52" y="28"/>
                  </a:cubicBezTo>
                  <a:cubicBezTo>
                    <a:pt x="76" y="15"/>
                    <a:pt x="78" y="5"/>
                    <a:pt x="90" y="6"/>
                  </a:cubicBezTo>
                  <a:cubicBezTo>
                    <a:pt x="103" y="7"/>
                    <a:pt x="112" y="27"/>
                    <a:pt x="128" y="34"/>
                  </a:cubicBezTo>
                  <a:cubicBezTo>
                    <a:pt x="144" y="41"/>
                    <a:pt x="164" y="48"/>
                    <a:pt x="185" y="48"/>
                  </a:cubicBezTo>
                  <a:cubicBezTo>
                    <a:pt x="204" y="48"/>
                    <a:pt x="226" y="44"/>
                    <a:pt x="244" y="36"/>
                  </a:cubicBezTo>
                  <a:cubicBezTo>
                    <a:pt x="261" y="27"/>
                    <a:pt x="271" y="0"/>
                    <a:pt x="285" y="0"/>
                  </a:cubicBezTo>
                  <a:cubicBezTo>
                    <a:pt x="299" y="0"/>
                    <a:pt x="309" y="26"/>
                    <a:pt x="328" y="34"/>
                  </a:cubicBezTo>
                  <a:cubicBezTo>
                    <a:pt x="347" y="43"/>
                    <a:pt x="376" y="52"/>
                    <a:pt x="399" y="51"/>
                  </a:cubicBezTo>
                  <a:cubicBezTo>
                    <a:pt x="421" y="51"/>
                    <a:pt x="442" y="44"/>
                    <a:pt x="460" y="36"/>
                  </a:cubicBezTo>
                  <a:cubicBezTo>
                    <a:pt x="477" y="29"/>
                    <a:pt x="492" y="7"/>
                    <a:pt x="504" y="6"/>
                  </a:cubicBezTo>
                  <a:cubicBezTo>
                    <a:pt x="520" y="7"/>
                    <a:pt x="538" y="34"/>
                    <a:pt x="554" y="41"/>
                  </a:cubicBezTo>
                  <a:cubicBezTo>
                    <a:pt x="570" y="48"/>
                    <a:pt x="585" y="51"/>
                    <a:pt x="598" y="51"/>
                  </a:cubicBezTo>
                  <a:cubicBezTo>
                    <a:pt x="612" y="52"/>
                    <a:pt x="629" y="46"/>
                    <a:pt x="637" y="45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21080" y="3581280"/>
              <a:ext cx="1011240" cy="82440"/>
            </a:xfrm>
            <a:custGeom>
              <a:avLst/>
              <a:gdLst/>
              <a:ahLst/>
              <a:rect l="l" t="t" r="r" b="b"/>
              <a:pathLst>
                <a:path w="637" h="52">
                  <a:moveTo>
                    <a:pt x="0" y="45"/>
                  </a:moveTo>
                  <a:cubicBezTo>
                    <a:pt x="8" y="43"/>
                    <a:pt x="28" y="41"/>
                    <a:pt x="52" y="28"/>
                  </a:cubicBezTo>
                  <a:cubicBezTo>
                    <a:pt x="76" y="15"/>
                    <a:pt x="78" y="5"/>
                    <a:pt x="90" y="6"/>
                  </a:cubicBezTo>
                  <a:cubicBezTo>
                    <a:pt x="103" y="7"/>
                    <a:pt x="112" y="27"/>
                    <a:pt x="128" y="34"/>
                  </a:cubicBezTo>
                  <a:cubicBezTo>
                    <a:pt x="144" y="41"/>
                    <a:pt x="164" y="48"/>
                    <a:pt x="185" y="48"/>
                  </a:cubicBezTo>
                  <a:cubicBezTo>
                    <a:pt x="204" y="48"/>
                    <a:pt x="226" y="44"/>
                    <a:pt x="244" y="36"/>
                  </a:cubicBezTo>
                  <a:cubicBezTo>
                    <a:pt x="261" y="27"/>
                    <a:pt x="271" y="0"/>
                    <a:pt x="285" y="0"/>
                  </a:cubicBezTo>
                  <a:cubicBezTo>
                    <a:pt x="299" y="0"/>
                    <a:pt x="309" y="26"/>
                    <a:pt x="328" y="34"/>
                  </a:cubicBezTo>
                  <a:cubicBezTo>
                    <a:pt x="347" y="43"/>
                    <a:pt x="376" y="52"/>
                    <a:pt x="399" y="51"/>
                  </a:cubicBezTo>
                  <a:cubicBezTo>
                    <a:pt x="421" y="51"/>
                    <a:pt x="442" y="44"/>
                    <a:pt x="460" y="36"/>
                  </a:cubicBezTo>
                  <a:cubicBezTo>
                    <a:pt x="477" y="29"/>
                    <a:pt x="492" y="7"/>
                    <a:pt x="504" y="6"/>
                  </a:cubicBezTo>
                  <a:cubicBezTo>
                    <a:pt x="520" y="7"/>
                    <a:pt x="538" y="34"/>
                    <a:pt x="554" y="41"/>
                  </a:cubicBezTo>
                  <a:cubicBezTo>
                    <a:pt x="570" y="48"/>
                    <a:pt x="585" y="51"/>
                    <a:pt x="598" y="51"/>
                  </a:cubicBezTo>
                  <a:cubicBezTo>
                    <a:pt x="612" y="52"/>
                    <a:pt x="629" y="46"/>
                    <a:pt x="637" y="45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29080" y="3581280"/>
              <a:ext cx="1011240" cy="82440"/>
            </a:xfrm>
            <a:custGeom>
              <a:avLst/>
              <a:gdLst/>
              <a:ahLst/>
              <a:rect l="l" t="t" r="r" b="b"/>
              <a:pathLst>
                <a:path w="637" h="52">
                  <a:moveTo>
                    <a:pt x="0" y="45"/>
                  </a:moveTo>
                  <a:cubicBezTo>
                    <a:pt x="8" y="43"/>
                    <a:pt x="28" y="41"/>
                    <a:pt x="52" y="28"/>
                  </a:cubicBezTo>
                  <a:cubicBezTo>
                    <a:pt x="76" y="15"/>
                    <a:pt x="78" y="5"/>
                    <a:pt x="90" y="6"/>
                  </a:cubicBezTo>
                  <a:cubicBezTo>
                    <a:pt x="103" y="7"/>
                    <a:pt x="112" y="27"/>
                    <a:pt x="128" y="34"/>
                  </a:cubicBezTo>
                  <a:cubicBezTo>
                    <a:pt x="144" y="41"/>
                    <a:pt x="164" y="48"/>
                    <a:pt x="185" y="48"/>
                  </a:cubicBezTo>
                  <a:cubicBezTo>
                    <a:pt x="204" y="48"/>
                    <a:pt x="226" y="44"/>
                    <a:pt x="244" y="36"/>
                  </a:cubicBezTo>
                  <a:cubicBezTo>
                    <a:pt x="261" y="27"/>
                    <a:pt x="271" y="0"/>
                    <a:pt x="285" y="0"/>
                  </a:cubicBezTo>
                  <a:cubicBezTo>
                    <a:pt x="299" y="0"/>
                    <a:pt x="309" y="26"/>
                    <a:pt x="328" y="34"/>
                  </a:cubicBezTo>
                  <a:cubicBezTo>
                    <a:pt x="347" y="43"/>
                    <a:pt x="376" y="52"/>
                    <a:pt x="399" y="51"/>
                  </a:cubicBezTo>
                  <a:cubicBezTo>
                    <a:pt x="421" y="51"/>
                    <a:pt x="442" y="44"/>
                    <a:pt x="460" y="36"/>
                  </a:cubicBezTo>
                  <a:cubicBezTo>
                    <a:pt x="477" y="29"/>
                    <a:pt x="492" y="7"/>
                    <a:pt x="504" y="6"/>
                  </a:cubicBezTo>
                  <a:cubicBezTo>
                    <a:pt x="520" y="7"/>
                    <a:pt x="538" y="34"/>
                    <a:pt x="554" y="41"/>
                  </a:cubicBezTo>
                  <a:cubicBezTo>
                    <a:pt x="570" y="48"/>
                    <a:pt x="585" y="51"/>
                    <a:pt x="598" y="51"/>
                  </a:cubicBezTo>
                  <a:cubicBezTo>
                    <a:pt x="612" y="52"/>
                    <a:pt x="629" y="46"/>
                    <a:pt x="637" y="45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37440" y="3581280"/>
              <a:ext cx="1011240" cy="82440"/>
            </a:xfrm>
            <a:custGeom>
              <a:avLst/>
              <a:gdLst/>
              <a:ahLst/>
              <a:rect l="l" t="t" r="r" b="b"/>
              <a:pathLst>
                <a:path w="637" h="52">
                  <a:moveTo>
                    <a:pt x="0" y="45"/>
                  </a:moveTo>
                  <a:cubicBezTo>
                    <a:pt x="8" y="43"/>
                    <a:pt x="28" y="41"/>
                    <a:pt x="52" y="28"/>
                  </a:cubicBezTo>
                  <a:cubicBezTo>
                    <a:pt x="76" y="15"/>
                    <a:pt x="78" y="5"/>
                    <a:pt x="90" y="6"/>
                  </a:cubicBezTo>
                  <a:cubicBezTo>
                    <a:pt x="103" y="7"/>
                    <a:pt x="112" y="27"/>
                    <a:pt x="128" y="34"/>
                  </a:cubicBezTo>
                  <a:cubicBezTo>
                    <a:pt x="144" y="41"/>
                    <a:pt x="164" y="48"/>
                    <a:pt x="185" y="48"/>
                  </a:cubicBezTo>
                  <a:cubicBezTo>
                    <a:pt x="204" y="48"/>
                    <a:pt x="226" y="44"/>
                    <a:pt x="244" y="36"/>
                  </a:cubicBezTo>
                  <a:cubicBezTo>
                    <a:pt x="261" y="27"/>
                    <a:pt x="271" y="0"/>
                    <a:pt x="285" y="0"/>
                  </a:cubicBezTo>
                  <a:cubicBezTo>
                    <a:pt x="299" y="0"/>
                    <a:pt x="309" y="26"/>
                    <a:pt x="328" y="34"/>
                  </a:cubicBezTo>
                  <a:cubicBezTo>
                    <a:pt x="347" y="43"/>
                    <a:pt x="376" y="52"/>
                    <a:pt x="399" y="51"/>
                  </a:cubicBezTo>
                  <a:cubicBezTo>
                    <a:pt x="421" y="51"/>
                    <a:pt x="442" y="44"/>
                    <a:pt x="460" y="36"/>
                  </a:cubicBezTo>
                  <a:cubicBezTo>
                    <a:pt x="477" y="29"/>
                    <a:pt x="492" y="7"/>
                    <a:pt x="504" y="6"/>
                  </a:cubicBezTo>
                  <a:cubicBezTo>
                    <a:pt x="520" y="7"/>
                    <a:pt x="538" y="34"/>
                    <a:pt x="554" y="41"/>
                  </a:cubicBezTo>
                  <a:cubicBezTo>
                    <a:pt x="570" y="48"/>
                    <a:pt x="585" y="51"/>
                    <a:pt x="598" y="51"/>
                  </a:cubicBezTo>
                  <a:cubicBezTo>
                    <a:pt x="612" y="52"/>
                    <a:pt x="629" y="46"/>
                    <a:pt x="637" y="45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45440" y="3581280"/>
              <a:ext cx="1157040" cy="82440"/>
            </a:xfrm>
            <a:custGeom>
              <a:avLst/>
              <a:gdLst/>
              <a:ahLst/>
              <a:rect l="l" t="t" r="r" b="b"/>
              <a:pathLst>
                <a:path w="729" h="52">
                  <a:moveTo>
                    <a:pt x="0" y="45"/>
                  </a:moveTo>
                  <a:cubicBezTo>
                    <a:pt x="8" y="43"/>
                    <a:pt x="28" y="41"/>
                    <a:pt x="52" y="28"/>
                  </a:cubicBezTo>
                  <a:cubicBezTo>
                    <a:pt x="76" y="15"/>
                    <a:pt x="78" y="5"/>
                    <a:pt x="90" y="6"/>
                  </a:cubicBezTo>
                  <a:cubicBezTo>
                    <a:pt x="103" y="7"/>
                    <a:pt x="112" y="27"/>
                    <a:pt x="128" y="34"/>
                  </a:cubicBezTo>
                  <a:cubicBezTo>
                    <a:pt x="144" y="41"/>
                    <a:pt x="164" y="48"/>
                    <a:pt x="185" y="48"/>
                  </a:cubicBezTo>
                  <a:cubicBezTo>
                    <a:pt x="204" y="48"/>
                    <a:pt x="226" y="44"/>
                    <a:pt x="244" y="36"/>
                  </a:cubicBezTo>
                  <a:cubicBezTo>
                    <a:pt x="261" y="27"/>
                    <a:pt x="271" y="0"/>
                    <a:pt x="285" y="0"/>
                  </a:cubicBezTo>
                  <a:cubicBezTo>
                    <a:pt x="299" y="0"/>
                    <a:pt x="309" y="26"/>
                    <a:pt x="328" y="34"/>
                  </a:cubicBezTo>
                  <a:cubicBezTo>
                    <a:pt x="347" y="43"/>
                    <a:pt x="376" y="52"/>
                    <a:pt x="399" y="51"/>
                  </a:cubicBezTo>
                  <a:cubicBezTo>
                    <a:pt x="421" y="51"/>
                    <a:pt x="442" y="44"/>
                    <a:pt x="460" y="36"/>
                  </a:cubicBezTo>
                  <a:cubicBezTo>
                    <a:pt x="477" y="29"/>
                    <a:pt x="492" y="7"/>
                    <a:pt x="504" y="6"/>
                  </a:cubicBezTo>
                  <a:cubicBezTo>
                    <a:pt x="520" y="7"/>
                    <a:pt x="538" y="34"/>
                    <a:pt x="554" y="41"/>
                  </a:cubicBezTo>
                  <a:cubicBezTo>
                    <a:pt x="570" y="48"/>
                    <a:pt x="585" y="51"/>
                    <a:pt x="598" y="51"/>
                  </a:cubicBezTo>
                  <a:cubicBezTo>
                    <a:pt x="618" y="51"/>
                    <a:pt x="651" y="50"/>
                    <a:pt x="673" y="42"/>
                  </a:cubicBezTo>
                  <a:cubicBezTo>
                    <a:pt x="695" y="34"/>
                    <a:pt x="717" y="11"/>
                    <a:pt x="729" y="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066680" y="1905120"/>
            <a:ext cx="67057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Univers 55"/>
              </a:rPr>
              <a:t> </a:t>
            </a:r>
            <a:r>
              <a:rPr b="0" lang="en-NZ" sz="2600" spc="-1" strike="noStrike">
                <a:solidFill>
                  <a:srgbClr val="ffffff"/>
                </a:solidFill>
                <a:latin typeface="Garamond"/>
              </a:rPr>
              <a:t>Ownership</a:t>
            </a:r>
            <a:r>
              <a:rPr b="0" lang="en-NZ" sz="2600" spc="-1" strike="noStrike">
                <a:solidFill>
                  <a:srgbClr val="ffffff"/>
                </a:solidFill>
                <a:latin typeface="Univers 55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b9efee"/>
                </a:solidFill>
                <a:latin typeface="Garamond"/>
              </a:rPr>
              <a:t>CULTURAL REDRESS (Cont)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Management of the Lak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Garamond"/>
              </a:rPr>
              <a:t>Rotorua Lakes Strategy Group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Garamond"/>
              </a:rPr>
              <a:t>- Te Arawa Lakes Trus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Garamond"/>
              </a:rPr>
              <a:t>- Environment Bay of Plent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Garamond"/>
              </a:rPr>
              <a:t>- Rotorua District Counci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Garamond"/>
              </a:rPr>
              <a:t>Formal Protocols with the Crown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600" spc="-1" strike="noStrike">
                <a:solidFill>
                  <a:srgbClr val="ffffff"/>
                </a:solidFill>
                <a:latin typeface="Garamond"/>
              </a:rPr>
              <a:t>- DOC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600" spc="-1" strike="noStrike">
                <a:solidFill>
                  <a:srgbClr val="ffffff"/>
                </a:solidFill>
                <a:latin typeface="Garamond"/>
              </a:rPr>
              <a:t>- MFish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600" spc="-1" strike="noStrike">
                <a:solidFill>
                  <a:srgbClr val="ffffff"/>
                </a:solidFill>
                <a:latin typeface="Garamond"/>
              </a:rPr>
              <a:t>- Mf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600" spc="-1" strike="noStrike">
                <a:solidFill>
                  <a:srgbClr val="ffffff"/>
                </a:solidFill>
                <a:latin typeface="Garamond"/>
              </a:rPr>
              <a:t>- Min Arts Culture &amp; Heritag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3:38:27Z</dcterms:created>
  <dc:creator>roku</dc:creator>
  <dc:description/>
  <dc:language>en-US</dc:language>
  <cp:lastModifiedBy>roku</cp:lastModifiedBy>
  <dcterms:modified xsi:type="dcterms:W3CDTF">2009-03-10T04:40:46Z</dcterms:modified>
  <cp:revision>19</cp:revision>
  <dc:subject/>
  <dc:title>TE ARAWA LAKES TRUST</dc:title>
</cp:coreProperties>
</file>